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Click to move the slide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F7AD-6D54-4442-A27A-BB4988009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9B32-0BB3-4C11-8600-E199733FD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49B0-A50B-4C56-A7B4-5B26004C1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11A3-ECFC-4B82-AF15-4B0FC4C90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4DD5-0D47-401D-8EBD-643064F06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23EA-5B38-46ED-BCEF-CF8C0BF6B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4220-A8D3-46D3-ABE2-FB8A4EF72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7A3A-CCC4-4087-9B56-01C5E1D19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3ED8-67A4-45D5-8E2F-093340C0D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2207-728C-4FF5-8780-48B1133B0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E0F5-DB5E-40B7-81A6-0BA90AEAC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6700-8F74-489A-A3C9-013B5CA9F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66D9-45CA-4D6C-B730-42BBC651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51BB-72A3-42A0-8EEC-B2E8FB8E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6A054-2CD4-4DFE-A8E9-5ECB4BDF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8A62D6-5111-4C39-A4AD-F5A498D4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0E430-A218-4DAD-89F2-A819D1B5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DBDB4-7780-4F47-9E91-5712B011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D1FD7-DA79-452E-B368-661B5C40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ADE22-E931-4609-9255-62184CE9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7F5D7-70F5-4A5F-BB59-62E8ECAA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CE549-8A2A-41BF-B6AB-7B657ECB3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20120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72624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67616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20120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72624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86A82-61CC-41B1-B1D1-F02870009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5861-7585-4829-A7F7-54C7A1E6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120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2624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7616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120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2624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14A7-3603-484C-8871-AED3BC866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6806-EBB0-4042-90F4-45700E3E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C5EE-CDBE-413C-8BD9-AB086E18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4421-9599-4E53-82CF-63C1BF86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2AF2-4EDA-4B4E-B6CE-9E2A972B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462B-1280-4B46-BB31-8EC0D918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A988-3A82-4918-ADE0-3033F194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5EFA-1656-4691-ADE8-A6FD641B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2F77-3B4F-4C41-942D-B9B78721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84B9-F709-464E-ACD0-80256CA6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5A04-BEE9-4A80-AF6A-0E4CDB2C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13ED-9D66-4651-93A3-8AF9B70E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A9E9-E5DC-4CA4-ACEE-F04C28E38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0120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2624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7616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0120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2624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070D-3D94-431C-BCFB-2960FDA5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ED61F-4DF5-43A6-BAA1-A7C10EE4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ECFBF-DB8D-4494-A0C6-47EC748B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89BB6-CEF6-4A3E-B51E-9B1BC32A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93B7E-2D0A-48A5-831C-B58D7E1D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33E00-27F5-44B5-9E90-0F52E7A9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F288-C607-4C66-B574-FEBACE58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BEC0E-651C-453E-B274-A72164D1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1803B-1EF3-40BD-B7A2-C241E4F2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2462A-469C-410C-8C90-FF845624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D16C4-5C97-4CC8-9C44-61AB3E85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DBD11-6AA1-42EE-BEA0-8BE48A5A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5E243-A57A-4BF7-8D5A-E16055D56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0120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72624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67616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20120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72624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73C88-75A9-42CE-BC81-BCEC368F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CF4E0-2FCF-4125-A54E-BFDB5DA87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09B5F-281F-4FD0-9C83-3082AA77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4E4B3-E019-427B-9B60-75EF5094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FE1D-8302-4AF4-BB3C-CBA1196D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1ED80-4ECE-45AF-93E5-E3EF12D7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43DCF-986E-455B-A402-94F457EA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BD343-ECCC-4C5C-9D85-59152B8C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4DDDA-E110-4A88-97C4-03247591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E3041-20D1-495E-A66A-927DCA19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77310-036C-41B8-9D0D-F5F789DB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42241-760A-46BE-856D-52E6D02B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39D0F-1375-4993-9B08-674A8B99E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0120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72624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67616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20120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72624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101D0-A036-4270-9504-37697AA82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8EFC2-A28B-495E-8E4B-13792CBD0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C5C5-8DBA-48C4-A674-58D1EAEB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38E98-11C4-4CB6-A34A-3D01C929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F436D-E788-465D-95D1-807B944F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7CE64-BDAA-45CA-A1DB-87E99F30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DD079-3572-4F08-8F86-6AEB98C5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4F276-D555-4F3C-BF64-8765681F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57B1B-7E57-4BA6-84E7-176C6835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0D87C-E39A-4414-B4EC-06EDE0F5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EB9D5-38E6-402A-A5A1-FDAD48BB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C05B3-E265-4ACC-B68A-1B3A40D5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9D965-E8F7-4807-8DF7-E92827E83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0139-5F08-4F08-8BF7-3B7EC405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20120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72624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67616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20120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72624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9507C-8AA0-49AA-8511-A2104A7BA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7C62B-00C8-426C-943C-2AD2FDC6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D808C-1F76-46B5-A709-8B79EC0B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EB7BB-4B09-427C-BA22-CC38C147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BBE8B-D649-43F8-B0C8-67F080C5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E88BE-4E4D-49AF-AB42-D7D59724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A0BCD-5EDC-46A6-8A98-620BC743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E5DF4-C4A2-46BF-BEA1-AF23AE9E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D3D61-2B04-4BB4-A32D-6777CDBE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46946-4811-4BD1-9501-C200625B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15AA-E99C-4E04-980E-51595A36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40E2F-B1DF-4907-9AA0-BB61C199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B8766-7174-4AC7-8EAC-47DF8D5E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20120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72624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67616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20120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72624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BEE57-4F0C-4774-9E44-506A9B8E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7DB9F-0515-48A5-B24C-6EA22BC6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13439-E9CF-4B0F-A02A-8BF4D6A8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81EAF-2DBD-4854-8430-C0D86B06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EDA4D-91FF-4965-8C79-0AC0F0E3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EFA54-BA8F-4FB9-AB0E-5BCCFC19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07045-4033-46A8-B007-3416E140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A1FC6-8892-4169-A066-D1F883D4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50C1-7613-4174-BD09-35F0B4F1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23DBB-166E-4D47-A408-723AB7EB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849DF-F32D-428E-96B9-D542333C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CFEFE-6F37-40FC-AE76-5A970438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FC9D1-B73C-469B-B9FA-13EA2E1B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0120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72624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67616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20120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72624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7FF14-B1D1-465F-91A6-E651145C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730AB-2F68-4E4D-B8A2-A161EBDA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A6FD7-B44D-44C5-A778-46274AEF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6BE66-AA01-43DE-AA71-38BE1ADD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DD543-CA50-483E-8C65-8B09F7EC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C5236-4A9D-4D99-ABCC-780826E2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4591-2A94-47CC-85A6-C1C7C24B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EA547-E03A-4C8B-8A45-1718BC08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CD401-5C57-4F2B-B51C-FCF5987C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E8146-2EB8-4F94-9AA4-84101687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D595B-88B0-49AC-9AB2-27B082B3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73B30-E9D7-4681-9500-C621F66B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19B01-05A0-490D-9E32-9A9C70D1E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0120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72624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67616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20120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72624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3FF44-5BF5-4A65-A2FC-F5F5CAE5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A59C0-C1E9-496A-8809-6E297543B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2C542-493A-4DF9-888D-AFCED686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80E1C-A355-45BF-B899-DC210D79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Click to edit the title text format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336B-05C4-42E2-B41D-1E043DFE4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B3E8-5557-4A50-AF8D-97207F145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2840-FDE2-4201-ACF5-8A774FBC4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676160" y="2331720"/>
            <a:ext cx="74674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B2E6-8447-4514-B8A2-22A5C14D2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C5E9-CB7D-474D-BB42-972B15852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2804-9F6D-4AAD-8C36-E44AA5394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676160" y="2331720"/>
            <a:ext cx="74674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3047-78F3-41E5-A940-D4AB688A3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B9E5-2A26-415F-A5E7-33194C269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953A-F8BF-45B4-A96C-2E78DCFF5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2.4: linear inequalities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X-intercept method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33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so that f(x)&lt;0.  X intercept becomes the turning point for the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+1&gt;2x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&gt;3x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4" descr="basic graph"/>
          <p:cNvPicPr/>
          <p:nvPr/>
        </p:nvPicPr>
        <p:blipFill>
          <a:blip r:embed="rId1"/>
          <a:stretch/>
        </p:blipFill>
        <p:spPr>
          <a:xfrm>
            <a:off x="5867280" y="3505320"/>
            <a:ext cx="2719440" cy="2790720"/>
          </a:xfrm>
          <a:prstGeom prst="rect">
            <a:avLst/>
          </a:prstGeom>
          <a:ln w="0">
            <a:noFill/>
          </a:ln>
        </p:spPr>
      </p:pic>
      <p:sp>
        <p:nvSpPr>
          <p:cNvPr id="487" name="SMARTPenAnnotation68"/>
          <p:cNvSpPr/>
          <p:nvPr/>
        </p:nvSpPr>
        <p:spPr>
          <a:xfrm>
            <a:off x="1635120" y="4572000"/>
            <a:ext cx="19368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MARTPenAnnotation69"/>
          <p:cNvSpPr/>
          <p:nvPr/>
        </p:nvSpPr>
        <p:spPr>
          <a:xfrm>
            <a:off x="1817640" y="4378320"/>
            <a:ext cx="155520" cy="376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MARTPenAnnotation70"/>
          <p:cNvSpPr/>
          <p:nvPr/>
        </p:nvSpPr>
        <p:spPr>
          <a:xfrm>
            <a:off x="2022480" y="4468680"/>
            <a:ext cx="114120" cy="239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MARTPenAnnotation71"/>
          <p:cNvSpPr/>
          <p:nvPr/>
        </p:nvSpPr>
        <p:spPr>
          <a:xfrm>
            <a:off x="1989000" y="4492800"/>
            <a:ext cx="160560" cy="285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MARTPenAnnotation72"/>
          <p:cNvSpPr/>
          <p:nvPr/>
        </p:nvSpPr>
        <p:spPr>
          <a:xfrm>
            <a:off x="2193840" y="4537080"/>
            <a:ext cx="206640" cy="23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MARTPenAnnotation73"/>
          <p:cNvSpPr/>
          <p:nvPr/>
        </p:nvSpPr>
        <p:spPr>
          <a:xfrm>
            <a:off x="2332080" y="4422600"/>
            <a:ext cx="4608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MARTPenAnnotation74"/>
          <p:cNvSpPr/>
          <p:nvPr/>
        </p:nvSpPr>
        <p:spPr>
          <a:xfrm>
            <a:off x="2470320" y="4422600"/>
            <a:ext cx="9360" cy="331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MARTPenAnnotation75"/>
          <p:cNvSpPr/>
          <p:nvPr/>
        </p:nvSpPr>
        <p:spPr>
          <a:xfrm>
            <a:off x="2583000" y="4389480"/>
            <a:ext cx="134640" cy="376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MARTPenAnnotation76"/>
          <p:cNvSpPr/>
          <p:nvPr/>
        </p:nvSpPr>
        <p:spPr>
          <a:xfrm>
            <a:off x="2879640" y="4537080"/>
            <a:ext cx="195480" cy="12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MARTPenAnnotation77"/>
          <p:cNvSpPr/>
          <p:nvPr/>
        </p:nvSpPr>
        <p:spPr>
          <a:xfrm>
            <a:off x="3191040" y="4400640"/>
            <a:ext cx="101520" cy="263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MARTPenAnnotation78"/>
          <p:cNvSpPr/>
          <p:nvPr/>
        </p:nvSpPr>
        <p:spPr>
          <a:xfrm>
            <a:off x="3394080" y="4446720"/>
            <a:ext cx="92160" cy="228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MARTPenAnnotation79"/>
          <p:cNvSpPr/>
          <p:nvPr/>
        </p:nvSpPr>
        <p:spPr>
          <a:xfrm>
            <a:off x="3363840" y="4394160"/>
            <a:ext cx="192240" cy="254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MARTPenAnnotation80"/>
          <p:cNvSpPr/>
          <p:nvPr/>
        </p:nvSpPr>
        <p:spPr>
          <a:xfrm>
            <a:off x="3611520" y="4514760"/>
            <a:ext cx="30960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MARTPenAnnotation81"/>
          <p:cNvSpPr/>
          <p:nvPr/>
        </p:nvSpPr>
        <p:spPr>
          <a:xfrm>
            <a:off x="3760920" y="4435560"/>
            <a:ext cx="17280" cy="272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MARTPenAnnotation82"/>
          <p:cNvSpPr/>
          <p:nvPr/>
        </p:nvSpPr>
        <p:spPr>
          <a:xfrm>
            <a:off x="3978360" y="4378320"/>
            <a:ext cx="22320" cy="272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MARTPenAnnotation83"/>
          <p:cNvSpPr/>
          <p:nvPr/>
        </p:nvSpPr>
        <p:spPr>
          <a:xfrm>
            <a:off x="4092480" y="4321080"/>
            <a:ext cx="182520" cy="411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MARTPenAnnotation84"/>
          <p:cNvSpPr/>
          <p:nvPr/>
        </p:nvSpPr>
        <p:spPr>
          <a:xfrm>
            <a:off x="2050920" y="5108400"/>
            <a:ext cx="241560" cy="400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MARTPenAnnotation85"/>
          <p:cNvSpPr/>
          <p:nvPr/>
        </p:nvSpPr>
        <p:spPr>
          <a:xfrm>
            <a:off x="2446200" y="5108400"/>
            <a:ext cx="301680" cy="355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MARTPenAnnotation86"/>
          <p:cNvSpPr/>
          <p:nvPr/>
        </p:nvSpPr>
        <p:spPr>
          <a:xfrm>
            <a:off x="2936880" y="5029200"/>
            <a:ext cx="228600" cy="343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MARTPenAnnotation87"/>
          <p:cNvSpPr/>
          <p:nvPr/>
        </p:nvSpPr>
        <p:spPr>
          <a:xfrm>
            <a:off x="2936880" y="4994280"/>
            <a:ext cx="228600" cy="434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MARTPenAnnotation88"/>
          <p:cNvSpPr/>
          <p:nvPr/>
        </p:nvSpPr>
        <p:spPr>
          <a:xfrm>
            <a:off x="3222720" y="5097600"/>
            <a:ext cx="298440" cy="56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MARTPenAnnotation89"/>
          <p:cNvSpPr/>
          <p:nvPr/>
        </p:nvSpPr>
        <p:spPr>
          <a:xfrm>
            <a:off x="3681360" y="4915080"/>
            <a:ext cx="284040" cy="353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MARTPenAnnotation90"/>
          <p:cNvSpPr/>
          <p:nvPr/>
        </p:nvSpPr>
        <p:spPr>
          <a:xfrm>
            <a:off x="7097760" y="6173640"/>
            <a:ext cx="46080" cy="55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MARTPenAnnotation91"/>
          <p:cNvSpPr/>
          <p:nvPr/>
        </p:nvSpPr>
        <p:spPr>
          <a:xfrm>
            <a:off x="7132680" y="5921280"/>
            <a:ext cx="228600" cy="239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MARTPenAnnotation92"/>
          <p:cNvSpPr/>
          <p:nvPr/>
        </p:nvSpPr>
        <p:spPr>
          <a:xfrm>
            <a:off x="7211880" y="4435560"/>
            <a:ext cx="1795680" cy="1611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MARTPenAnnotation93"/>
          <p:cNvSpPr/>
          <p:nvPr/>
        </p:nvSpPr>
        <p:spPr>
          <a:xfrm>
            <a:off x="5989680" y="4754520"/>
            <a:ext cx="3051000" cy="68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MARTPenAnnotation94"/>
          <p:cNvSpPr/>
          <p:nvPr/>
        </p:nvSpPr>
        <p:spPr>
          <a:xfrm>
            <a:off x="8550360" y="4734000"/>
            <a:ext cx="68040" cy="108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MARTPenAnnotation95"/>
          <p:cNvSpPr/>
          <p:nvPr/>
        </p:nvSpPr>
        <p:spPr>
          <a:xfrm>
            <a:off x="8354880" y="5578560"/>
            <a:ext cx="217800" cy="501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MARTPenAnnotation96"/>
          <p:cNvSpPr/>
          <p:nvPr/>
        </p:nvSpPr>
        <p:spPr>
          <a:xfrm>
            <a:off x="8308800" y="5668920"/>
            <a:ext cx="263880" cy="378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MARTPenAnnotation97"/>
          <p:cNvSpPr/>
          <p:nvPr/>
        </p:nvSpPr>
        <p:spPr>
          <a:xfrm>
            <a:off x="8607600" y="5635800"/>
            <a:ext cx="180720" cy="257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MARTPenAnnotation98"/>
          <p:cNvSpPr/>
          <p:nvPr/>
        </p:nvSpPr>
        <p:spPr>
          <a:xfrm>
            <a:off x="8825040" y="5554800"/>
            <a:ext cx="158760" cy="388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MARTPenAnnotation0"/>
          <p:cNvSpPr/>
          <p:nvPr/>
        </p:nvSpPr>
        <p:spPr>
          <a:xfrm>
            <a:off x="2525760" y="2651040"/>
            <a:ext cx="331920" cy="320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MARTPenAnnotation1"/>
          <p:cNvSpPr/>
          <p:nvPr/>
        </p:nvSpPr>
        <p:spPr>
          <a:xfrm>
            <a:off x="2422440" y="2651040"/>
            <a:ext cx="389160" cy="389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MARTPenAnnotation2"/>
          <p:cNvSpPr/>
          <p:nvPr/>
        </p:nvSpPr>
        <p:spPr>
          <a:xfrm>
            <a:off x="3040200" y="2754360"/>
            <a:ext cx="399960" cy="23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MARTPenAnnotation3"/>
          <p:cNvSpPr/>
          <p:nvPr/>
        </p:nvSpPr>
        <p:spPr>
          <a:xfrm>
            <a:off x="3211560" y="2664000"/>
            <a:ext cx="34920" cy="342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MARTPenAnnotation4"/>
          <p:cNvSpPr/>
          <p:nvPr/>
        </p:nvSpPr>
        <p:spPr>
          <a:xfrm>
            <a:off x="3565440" y="2536920"/>
            <a:ext cx="23760" cy="446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MARTPenAnnotation5"/>
          <p:cNvSpPr/>
          <p:nvPr/>
        </p:nvSpPr>
        <p:spPr>
          <a:xfrm>
            <a:off x="3762360" y="2583000"/>
            <a:ext cx="385920" cy="411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MARTPenAnnotation6"/>
          <p:cNvSpPr/>
          <p:nvPr/>
        </p:nvSpPr>
        <p:spPr>
          <a:xfrm>
            <a:off x="4343400" y="2629080"/>
            <a:ext cx="457200" cy="280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MARTPenAnnotation7"/>
          <p:cNvSpPr/>
          <p:nvPr/>
        </p:nvSpPr>
        <p:spPr>
          <a:xfrm>
            <a:off x="4983120" y="2468520"/>
            <a:ext cx="68400" cy="480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MARTPenAnnotation8"/>
          <p:cNvSpPr/>
          <p:nvPr/>
        </p:nvSpPr>
        <p:spPr>
          <a:xfrm>
            <a:off x="5157720" y="2446200"/>
            <a:ext cx="339840" cy="433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MARTPenAnnotation9"/>
          <p:cNvSpPr/>
          <p:nvPr/>
        </p:nvSpPr>
        <p:spPr>
          <a:xfrm>
            <a:off x="5727600" y="2549520"/>
            <a:ext cx="479520" cy="297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MARTPenAnnotation10"/>
          <p:cNvSpPr/>
          <p:nvPr/>
        </p:nvSpPr>
        <p:spPr>
          <a:xfrm>
            <a:off x="6458040" y="2536920"/>
            <a:ext cx="331560" cy="376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MARTPenAnnotation11"/>
          <p:cNvSpPr/>
          <p:nvPr/>
        </p:nvSpPr>
        <p:spPr>
          <a:xfrm>
            <a:off x="6251400" y="2560680"/>
            <a:ext cx="481320" cy="361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MARTPenAnnotation12"/>
          <p:cNvSpPr/>
          <p:nvPr/>
        </p:nvSpPr>
        <p:spPr>
          <a:xfrm>
            <a:off x="7040520" y="2732040"/>
            <a:ext cx="468360" cy="33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MARTPenAnnotation13"/>
          <p:cNvSpPr/>
          <p:nvPr/>
        </p:nvSpPr>
        <p:spPr>
          <a:xfrm>
            <a:off x="7143840" y="2606760"/>
            <a:ext cx="102960" cy="376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MARTPenAnnotation14"/>
          <p:cNvSpPr/>
          <p:nvPr/>
        </p:nvSpPr>
        <p:spPr>
          <a:xfrm>
            <a:off x="7499520" y="2565360"/>
            <a:ext cx="466560" cy="428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MARTPenAnnotation15"/>
          <p:cNvSpPr/>
          <p:nvPr/>
        </p:nvSpPr>
        <p:spPr>
          <a:xfrm>
            <a:off x="7967520" y="2606760"/>
            <a:ext cx="443160" cy="398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MARTPenAnnotation16"/>
          <p:cNvSpPr/>
          <p:nvPr/>
        </p:nvSpPr>
        <p:spPr>
          <a:xfrm>
            <a:off x="2125800" y="3440160"/>
            <a:ext cx="42372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MARTPenAnnotation17"/>
          <p:cNvSpPr/>
          <p:nvPr/>
        </p:nvSpPr>
        <p:spPr>
          <a:xfrm>
            <a:off x="2674800" y="3211560"/>
            <a:ext cx="343080" cy="480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MARTPenAnnotation18"/>
          <p:cNvSpPr/>
          <p:nvPr/>
        </p:nvSpPr>
        <p:spPr>
          <a:xfrm>
            <a:off x="2492280" y="3325680"/>
            <a:ext cx="468360" cy="343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MARTPenAnnotation19"/>
          <p:cNvSpPr/>
          <p:nvPr/>
        </p:nvSpPr>
        <p:spPr>
          <a:xfrm>
            <a:off x="4800600" y="3314880"/>
            <a:ext cx="457200" cy="21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MARTPenAnnotation20"/>
          <p:cNvSpPr/>
          <p:nvPr/>
        </p:nvSpPr>
        <p:spPr>
          <a:xfrm>
            <a:off x="5394240" y="3143160"/>
            <a:ext cx="412920" cy="411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MARTPenAnnotation21"/>
          <p:cNvSpPr/>
          <p:nvPr/>
        </p:nvSpPr>
        <p:spPr>
          <a:xfrm>
            <a:off x="5326200" y="3235320"/>
            <a:ext cx="480960" cy="262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MARTPenAnnotation22"/>
          <p:cNvSpPr/>
          <p:nvPr/>
        </p:nvSpPr>
        <p:spPr>
          <a:xfrm>
            <a:off x="6194520" y="3336840"/>
            <a:ext cx="35568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MARTPenAnnotation23"/>
          <p:cNvSpPr/>
          <p:nvPr/>
        </p:nvSpPr>
        <p:spPr>
          <a:xfrm>
            <a:off x="6629400" y="3143160"/>
            <a:ext cx="446040" cy="331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MARTPenAnnotation24"/>
          <p:cNvSpPr/>
          <p:nvPr/>
        </p:nvSpPr>
        <p:spPr>
          <a:xfrm>
            <a:off x="6526080" y="3211560"/>
            <a:ext cx="481320" cy="353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MARTPenAnnotation25"/>
          <p:cNvSpPr/>
          <p:nvPr/>
        </p:nvSpPr>
        <p:spPr>
          <a:xfrm>
            <a:off x="2263680" y="4079880"/>
            <a:ext cx="79560" cy="595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MARTPenAnnotation26"/>
          <p:cNvSpPr/>
          <p:nvPr/>
        </p:nvSpPr>
        <p:spPr>
          <a:xfrm>
            <a:off x="2492280" y="4103640"/>
            <a:ext cx="422280" cy="514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MARTPenAnnotation27"/>
          <p:cNvSpPr/>
          <p:nvPr/>
        </p:nvSpPr>
        <p:spPr>
          <a:xfrm>
            <a:off x="3052800" y="4194000"/>
            <a:ext cx="536400" cy="343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MARTPenAnnotation28"/>
          <p:cNvSpPr/>
          <p:nvPr/>
        </p:nvSpPr>
        <p:spPr>
          <a:xfrm>
            <a:off x="3863880" y="4103640"/>
            <a:ext cx="125640" cy="582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MARTPenAnnotation29"/>
          <p:cNvSpPr/>
          <p:nvPr/>
        </p:nvSpPr>
        <p:spPr>
          <a:xfrm>
            <a:off x="4137120" y="4138560"/>
            <a:ext cx="480960" cy="468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MARTPenAnnotation30"/>
          <p:cNvSpPr/>
          <p:nvPr/>
        </p:nvSpPr>
        <p:spPr>
          <a:xfrm>
            <a:off x="4754520" y="4400640"/>
            <a:ext cx="25236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MARTPenAnnotation31"/>
          <p:cNvSpPr/>
          <p:nvPr/>
        </p:nvSpPr>
        <p:spPr>
          <a:xfrm>
            <a:off x="5211720" y="4218120"/>
            <a:ext cx="492120" cy="479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MARTPenAnnotation32"/>
          <p:cNvSpPr/>
          <p:nvPr/>
        </p:nvSpPr>
        <p:spPr>
          <a:xfrm>
            <a:off x="5154480" y="4343400"/>
            <a:ext cx="457200" cy="239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MARTPenAnnotation33"/>
          <p:cNvSpPr/>
          <p:nvPr/>
        </p:nvSpPr>
        <p:spPr>
          <a:xfrm>
            <a:off x="5840280" y="4286160"/>
            <a:ext cx="503280" cy="360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MARTPenAnnotation34"/>
          <p:cNvSpPr/>
          <p:nvPr/>
        </p:nvSpPr>
        <p:spPr>
          <a:xfrm>
            <a:off x="6446880" y="4194000"/>
            <a:ext cx="604800" cy="571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MARTPenAnnotation35"/>
          <p:cNvSpPr/>
          <p:nvPr/>
        </p:nvSpPr>
        <p:spPr>
          <a:xfrm>
            <a:off x="7040520" y="4218120"/>
            <a:ext cx="389160" cy="512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MARTPenAnnotation36"/>
          <p:cNvSpPr/>
          <p:nvPr/>
        </p:nvSpPr>
        <p:spPr>
          <a:xfrm>
            <a:off x="3851280" y="4778280"/>
            <a:ext cx="22860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MARTPenAnnotation37"/>
          <p:cNvSpPr/>
          <p:nvPr/>
        </p:nvSpPr>
        <p:spPr>
          <a:xfrm>
            <a:off x="4172040" y="4697280"/>
            <a:ext cx="21960" cy="25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MARTPenAnnotation38"/>
          <p:cNvSpPr/>
          <p:nvPr/>
        </p:nvSpPr>
        <p:spPr>
          <a:xfrm>
            <a:off x="4321080" y="4721400"/>
            <a:ext cx="262080" cy="239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MARTPenAnnotation39"/>
          <p:cNvSpPr/>
          <p:nvPr/>
        </p:nvSpPr>
        <p:spPr>
          <a:xfrm>
            <a:off x="2365200" y="4800600"/>
            <a:ext cx="25272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MARTPenAnnotation40"/>
          <p:cNvSpPr/>
          <p:nvPr/>
        </p:nvSpPr>
        <p:spPr>
          <a:xfrm>
            <a:off x="2697120" y="4732200"/>
            <a:ext cx="57240" cy="204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MARTPenAnnotation41"/>
          <p:cNvSpPr/>
          <p:nvPr/>
        </p:nvSpPr>
        <p:spPr>
          <a:xfrm>
            <a:off x="1157400" y="5211720"/>
            <a:ext cx="396720" cy="444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MARTPenAnnotation42"/>
          <p:cNvSpPr/>
          <p:nvPr/>
        </p:nvSpPr>
        <p:spPr>
          <a:xfrm>
            <a:off x="2879640" y="4879800"/>
            <a:ext cx="217440" cy="24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MARTPenAnnotation43"/>
          <p:cNvSpPr/>
          <p:nvPr/>
        </p:nvSpPr>
        <p:spPr>
          <a:xfrm>
            <a:off x="2822400" y="4721400"/>
            <a:ext cx="217800" cy="214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MARTPenAnnotation44"/>
          <p:cNvSpPr/>
          <p:nvPr/>
        </p:nvSpPr>
        <p:spPr>
          <a:xfrm>
            <a:off x="6515280" y="4916520"/>
            <a:ext cx="285480" cy="33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MARTPenAnnotation45"/>
          <p:cNvSpPr/>
          <p:nvPr/>
        </p:nvSpPr>
        <p:spPr>
          <a:xfrm>
            <a:off x="6892920" y="4811760"/>
            <a:ext cx="55440" cy="272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MARTPenAnnotation46"/>
          <p:cNvSpPr/>
          <p:nvPr/>
        </p:nvSpPr>
        <p:spPr>
          <a:xfrm>
            <a:off x="7018200" y="4800600"/>
            <a:ext cx="411480" cy="274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MARTPenAnnotation47"/>
          <p:cNvSpPr/>
          <p:nvPr/>
        </p:nvSpPr>
        <p:spPr>
          <a:xfrm>
            <a:off x="2320920" y="5440320"/>
            <a:ext cx="25092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MARTPenAnnotation48"/>
          <p:cNvSpPr/>
          <p:nvPr/>
        </p:nvSpPr>
        <p:spPr>
          <a:xfrm>
            <a:off x="2778120" y="5257800"/>
            <a:ext cx="411120" cy="388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MARTPenAnnotation49"/>
          <p:cNvSpPr/>
          <p:nvPr/>
        </p:nvSpPr>
        <p:spPr>
          <a:xfrm>
            <a:off x="3294000" y="5315040"/>
            <a:ext cx="374760" cy="274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MARTPenAnnotation50"/>
          <p:cNvSpPr/>
          <p:nvPr/>
        </p:nvSpPr>
        <p:spPr>
          <a:xfrm>
            <a:off x="3726000" y="5429160"/>
            <a:ext cx="252360" cy="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MARTPenAnnotation51"/>
          <p:cNvSpPr/>
          <p:nvPr/>
        </p:nvSpPr>
        <p:spPr>
          <a:xfrm>
            <a:off x="4114800" y="5280120"/>
            <a:ext cx="343080" cy="355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MARTPenAnnotation52"/>
          <p:cNvSpPr/>
          <p:nvPr/>
        </p:nvSpPr>
        <p:spPr>
          <a:xfrm>
            <a:off x="4149720" y="5361120"/>
            <a:ext cx="272880" cy="160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MARTPenAnnotation53"/>
          <p:cNvSpPr/>
          <p:nvPr/>
        </p:nvSpPr>
        <p:spPr>
          <a:xfrm>
            <a:off x="4606920" y="5303880"/>
            <a:ext cx="39996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MARTPenAnnotation54"/>
          <p:cNvSpPr/>
          <p:nvPr/>
        </p:nvSpPr>
        <p:spPr>
          <a:xfrm>
            <a:off x="5189400" y="5200560"/>
            <a:ext cx="354240" cy="657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MARTPenAnnotation55"/>
          <p:cNvSpPr/>
          <p:nvPr/>
        </p:nvSpPr>
        <p:spPr>
          <a:xfrm>
            <a:off x="2868480" y="5923080"/>
            <a:ext cx="411120" cy="409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MARTPenAnnotation56"/>
          <p:cNvSpPr/>
          <p:nvPr/>
        </p:nvSpPr>
        <p:spPr>
          <a:xfrm>
            <a:off x="3325680" y="5908680"/>
            <a:ext cx="376200" cy="309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MARTPenAnnotation57"/>
          <p:cNvSpPr/>
          <p:nvPr/>
        </p:nvSpPr>
        <p:spPr>
          <a:xfrm>
            <a:off x="3875040" y="5886360"/>
            <a:ext cx="376200" cy="389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MARTPenAnnotation58"/>
          <p:cNvSpPr/>
          <p:nvPr/>
        </p:nvSpPr>
        <p:spPr>
          <a:xfrm>
            <a:off x="3897360" y="5994360"/>
            <a:ext cx="338040" cy="189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MARTPenAnnotation59"/>
          <p:cNvSpPr/>
          <p:nvPr/>
        </p:nvSpPr>
        <p:spPr>
          <a:xfrm>
            <a:off x="4354560" y="5983200"/>
            <a:ext cx="353880" cy="235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MARTPenAnnotation60"/>
          <p:cNvSpPr/>
          <p:nvPr/>
        </p:nvSpPr>
        <p:spPr>
          <a:xfrm>
            <a:off x="4811760" y="6080040"/>
            <a:ext cx="342720" cy="66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MARTPenAnnotation61"/>
          <p:cNvSpPr/>
          <p:nvPr/>
        </p:nvSpPr>
        <p:spPr>
          <a:xfrm>
            <a:off x="5283360" y="5818320"/>
            <a:ext cx="271440" cy="547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MARTPenAnnotation62"/>
          <p:cNvSpPr/>
          <p:nvPr/>
        </p:nvSpPr>
        <p:spPr>
          <a:xfrm>
            <a:off x="6413400" y="5372280"/>
            <a:ext cx="284400" cy="1028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MARTPenAnnotation63"/>
          <p:cNvSpPr/>
          <p:nvPr/>
        </p:nvSpPr>
        <p:spPr>
          <a:xfrm>
            <a:off x="6640560" y="5877000"/>
            <a:ext cx="263520" cy="31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MARTPenAnnotation64"/>
          <p:cNvSpPr/>
          <p:nvPr/>
        </p:nvSpPr>
        <p:spPr>
          <a:xfrm>
            <a:off x="7086600" y="5521320"/>
            <a:ext cx="353880" cy="833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MARTPenAnnotation65"/>
          <p:cNvSpPr/>
          <p:nvPr/>
        </p:nvSpPr>
        <p:spPr>
          <a:xfrm>
            <a:off x="7486560" y="6207120"/>
            <a:ext cx="22320" cy="297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MARTPenAnnotation66"/>
          <p:cNvSpPr/>
          <p:nvPr/>
        </p:nvSpPr>
        <p:spPr>
          <a:xfrm>
            <a:off x="7693200" y="5554800"/>
            <a:ext cx="376200" cy="490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MARTPenAnnotation67"/>
          <p:cNvSpPr/>
          <p:nvPr/>
        </p:nvSpPr>
        <p:spPr>
          <a:xfrm>
            <a:off x="8001000" y="5268960"/>
            <a:ext cx="285840" cy="903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Your assignment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676160" y="2332080"/>
            <a:ext cx="7467480" cy="21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134-13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2-4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44, 48, 64, 68, 86, 88, 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Objectives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33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basic vocabulary related to inequ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interval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linear inequalities symbolically, numerically, and graph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compound inequ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Vocabulary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676160" y="2332080"/>
            <a:ext cx="7467480" cy="446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quality: compares two items using &lt;, &gt;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, or ≥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x&gt;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ndard form of linear inequality: ax+b&gt;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lution set: values that make an inequality a true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ound inequality: two inequalities connected by “and” or “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&gt; 5 or x&lt;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1&lt;x&l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Interval notation (page 1)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3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bounda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if not 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 if 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per bou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f not 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if 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&gt;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extends towar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interval notation (a, ∞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&lt;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extends towards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interval notation (-∞,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Interval notation (page 2)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extends toward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interval notation [a, ∞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extends towards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interval notation (-∞, a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&lt;x&lt;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interval notation (a,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≤x≤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interval notation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Interval Notation (page 3)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676160" y="2332080"/>
            <a:ext cx="7467480" cy="39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, b) is called an open inter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, b] or [a, b) is called a half-open inter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a, b] is called a closed inter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∞ or -∞ is involved, it is an infinite inter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Symbolic method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676520" y="2332080"/>
            <a:ext cx="7315200" cy="43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A the algebraic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the same way you would solve a linear equation, except that if you multiply or divide by a negative, you must switch the direction of the inequality symb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x+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≥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x+1&l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&lt; x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MARTPenAnnotation141"/>
          <p:cNvSpPr/>
          <p:nvPr/>
        </p:nvSpPr>
        <p:spPr>
          <a:xfrm>
            <a:off x="1646280" y="6012000"/>
            <a:ext cx="222120" cy="522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MARTPenAnnotation142"/>
          <p:cNvSpPr/>
          <p:nvPr/>
        </p:nvSpPr>
        <p:spPr>
          <a:xfrm>
            <a:off x="1943280" y="6207120"/>
            <a:ext cx="36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MARTPenAnnotation143"/>
          <p:cNvSpPr/>
          <p:nvPr/>
        </p:nvSpPr>
        <p:spPr>
          <a:xfrm>
            <a:off x="3657600" y="5783400"/>
            <a:ext cx="182520" cy="342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MARTPenAnnotation144"/>
          <p:cNvSpPr/>
          <p:nvPr/>
        </p:nvSpPr>
        <p:spPr>
          <a:xfrm>
            <a:off x="3578400" y="5932440"/>
            <a:ext cx="2880" cy="360"/>
          </a:xfrm>
          <a:prstGeom prst="pie">
            <a:avLst/>
          </a:prstGeom>
          <a:solidFill>
            <a:srgbClr val="ff0000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MARTPenAnnotation145"/>
          <p:cNvSpPr/>
          <p:nvPr/>
        </p:nvSpPr>
        <p:spPr>
          <a:xfrm>
            <a:off x="1565280" y="5943600"/>
            <a:ext cx="326880" cy="606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MARTPenAnnotation146"/>
          <p:cNvSpPr/>
          <p:nvPr/>
        </p:nvSpPr>
        <p:spPr>
          <a:xfrm>
            <a:off x="2308320" y="6172200"/>
            <a:ext cx="320760" cy="617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MARTPenAnnotation147"/>
          <p:cNvSpPr/>
          <p:nvPr/>
        </p:nvSpPr>
        <p:spPr>
          <a:xfrm>
            <a:off x="5108400" y="4697280"/>
            <a:ext cx="206640" cy="331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MARTPenAnnotation148"/>
          <p:cNvSpPr/>
          <p:nvPr/>
        </p:nvSpPr>
        <p:spPr>
          <a:xfrm>
            <a:off x="5108400" y="4754520"/>
            <a:ext cx="241560" cy="285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MARTPenAnnotation149"/>
          <p:cNvSpPr/>
          <p:nvPr/>
        </p:nvSpPr>
        <p:spPr>
          <a:xfrm>
            <a:off x="5451480" y="4778280"/>
            <a:ext cx="26352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MARTPenAnnotation150"/>
          <p:cNvSpPr/>
          <p:nvPr/>
        </p:nvSpPr>
        <p:spPr>
          <a:xfrm>
            <a:off x="5807160" y="4618080"/>
            <a:ext cx="272880" cy="284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MARTPenAnnotation151"/>
          <p:cNvSpPr/>
          <p:nvPr/>
        </p:nvSpPr>
        <p:spPr>
          <a:xfrm>
            <a:off x="6230880" y="4622760"/>
            <a:ext cx="262080" cy="314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MARTPenAnnotation152"/>
          <p:cNvSpPr/>
          <p:nvPr/>
        </p:nvSpPr>
        <p:spPr>
          <a:xfrm>
            <a:off x="6708600" y="4618080"/>
            <a:ext cx="195480" cy="35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MARTPenAnnotation153"/>
          <p:cNvSpPr/>
          <p:nvPr/>
        </p:nvSpPr>
        <p:spPr>
          <a:xfrm>
            <a:off x="7029360" y="4708440"/>
            <a:ext cx="160560" cy="241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MARTPenAnnotation154"/>
          <p:cNvSpPr/>
          <p:nvPr/>
        </p:nvSpPr>
        <p:spPr>
          <a:xfrm>
            <a:off x="6972480" y="4675320"/>
            <a:ext cx="274320" cy="318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MARTPenAnnotation155"/>
          <p:cNvSpPr/>
          <p:nvPr/>
        </p:nvSpPr>
        <p:spPr>
          <a:xfrm>
            <a:off x="7292880" y="4765680"/>
            <a:ext cx="25092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MARTPenAnnotation156"/>
          <p:cNvSpPr/>
          <p:nvPr/>
        </p:nvSpPr>
        <p:spPr>
          <a:xfrm>
            <a:off x="7637400" y="4640400"/>
            <a:ext cx="9720" cy="285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MARTPenAnnotation157"/>
          <p:cNvSpPr/>
          <p:nvPr/>
        </p:nvSpPr>
        <p:spPr>
          <a:xfrm>
            <a:off x="7761240" y="4618080"/>
            <a:ext cx="274680" cy="272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MARTPenAnnotation158"/>
          <p:cNvSpPr/>
          <p:nvPr/>
        </p:nvSpPr>
        <p:spPr>
          <a:xfrm>
            <a:off x="6583320" y="5246640"/>
            <a:ext cx="17136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MARTPenAnnotation159"/>
          <p:cNvSpPr/>
          <p:nvPr/>
        </p:nvSpPr>
        <p:spPr>
          <a:xfrm>
            <a:off x="6835680" y="5064120"/>
            <a:ext cx="193680" cy="35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MARTPenAnnotation160"/>
          <p:cNvSpPr/>
          <p:nvPr/>
        </p:nvSpPr>
        <p:spPr>
          <a:xfrm>
            <a:off x="7086600" y="5108400"/>
            <a:ext cx="136440" cy="149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MARTPenAnnotation161"/>
          <p:cNvSpPr/>
          <p:nvPr/>
        </p:nvSpPr>
        <p:spPr>
          <a:xfrm>
            <a:off x="7075440" y="5086440"/>
            <a:ext cx="16056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MARTPenAnnotation162"/>
          <p:cNvSpPr/>
          <p:nvPr/>
        </p:nvSpPr>
        <p:spPr>
          <a:xfrm>
            <a:off x="4933800" y="5246640"/>
            <a:ext cx="15264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MARTPenAnnotation163"/>
          <p:cNvSpPr/>
          <p:nvPr/>
        </p:nvSpPr>
        <p:spPr>
          <a:xfrm>
            <a:off x="5051520" y="5041800"/>
            <a:ext cx="252360" cy="409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MARTPenAnnotation164"/>
          <p:cNvSpPr/>
          <p:nvPr/>
        </p:nvSpPr>
        <p:spPr>
          <a:xfrm>
            <a:off x="5338800" y="5154480"/>
            <a:ext cx="90360" cy="263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MARTPenAnnotation165"/>
          <p:cNvSpPr/>
          <p:nvPr/>
        </p:nvSpPr>
        <p:spPr>
          <a:xfrm>
            <a:off x="5257800" y="5143680"/>
            <a:ext cx="239760" cy="307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MARTPenAnnotation166"/>
          <p:cNvSpPr/>
          <p:nvPr/>
        </p:nvSpPr>
        <p:spPr>
          <a:xfrm>
            <a:off x="4976640" y="5783400"/>
            <a:ext cx="223920" cy="56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MARTPenAnnotation167"/>
          <p:cNvSpPr/>
          <p:nvPr/>
        </p:nvSpPr>
        <p:spPr>
          <a:xfrm>
            <a:off x="5268960" y="5611680"/>
            <a:ext cx="195120" cy="309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MARTPenAnnotation168"/>
          <p:cNvSpPr/>
          <p:nvPr/>
        </p:nvSpPr>
        <p:spPr>
          <a:xfrm>
            <a:off x="5532480" y="5657760"/>
            <a:ext cx="11412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MARTPenAnnotation169"/>
          <p:cNvSpPr/>
          <p:nvPr/>
        </p:nvSpPr>
        <p:spPr>
          <a:xfrm>
            <a:off x="5521320" y="5635800"/>
            <a:ext cx="147600" cy="250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MARTPenAnnotation170"/>
          <p:cNvSpPr/>
          <p:nvPr/>
        </p:nvSpPr>
        <p:spPr>
          <a:xfrm>
            <a:off x="5726160" y="5703840"/>
            <a:ext cx="239760" cy="33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MARTPenAnnotation171"/>
          <p:cNvSpPr/>
          <p:nvPr/>
        </p:nvSpPr>
        <p:spPr>
          <a:xfrm>
            <a:off x="6000840" y="5486400"/>
            <a:ext cx="263520" cy="320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MARTPenAnnotation172"/>
          <p:cNvSpPr/>
          <p:nvPr/>
        </p:nvSpPr>
        <p:spPr>
          <a:xfrm>
            <a:off x="6402240" y="5521320"/>
            <a:ext cx="181080" cy="272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MARTPenAnnotation173"/>
          <p:cNvSpPr/>
          <p:nvPr/>
        </p:nvSpPr>
        <p:spPr>
          <a:xfrm>
            <a:off x="6675480" y="5578560"/>
            <a:ext cx="18252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MARTPenAnnotation174"/>
          <p:cNvSpPr/>
          <p:nvPr/>
        </p:nvSpPr>
        <p:spPr>
          <a:xfrm>
            <a:off x="6985080" y="5486400"/>
            <a:ext cx="9360" cy="206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MARTPenAnnotation175"/>
          <p:cNvSpPr/>
          <p:nvPr/>
        </p:nvSpPr>
        <p:spPr>
          <a:xfrm>
            <a:off x="7086600" y="5451480"/>
            <a:ext cx="297000" cy="241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MARTPenAnnotation176"/>
          <p:cNvSpPr/>
          <p:nvPr/>
        </p:nvSpPr>
        <p:spPr>
          <a:xfrm>
            <a:off x="5783400" y="5888160"/>
            <a:ext cx="34920" cy="215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MARTPenAnnotation177"/>
          <p:cNvSpPr/>
          <p:nvPr/>
        </p:nvSpPr>
        <p:spPr>
          <a:xfrm>
            <a:off x="5668920" y="5954760"/>
            <a:ext cx="160560" cy="81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MARTPenAnnotation178"/>
          <p:cNvSpPr/>
          <p:nvPr/>
        </p:nvSpPr>
        <p:spPr>
          <a:xfrm>
            <a:off x="5932440" y="5829480"/>
            <a:ext cx="308160" cy="239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MARTPenAnnotation179"/>
          <p:cNvSpPr/>
          <p:nvPr/>
        </p:nvSpPr>
        <p:spPr>
          <a:xfrm>
            <a:off x="6835680" y="5851440"/>
            <a:ext cx="147600" cy="92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MARTPenAnnotation180"/>
          <p:cNvSpPr/>
          <p:nvPr/>
        </p:nvSpPr>
        <p:spPr>
          <a:xfrm>
            <a:off x="6859440" y="5772240"/>
            <a:ext cx="55800" cy="250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MARTPenAnnotation181"/>
          <p:cNvSpPr/>
          <p:nvPr/>
        </p:nvSpPr>
        <p:spPr>
          <a:xfrm>
            <a:off x="7040520" y="5794200"/>
            <a:ext cx="228600" cy="206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MARTPenAnnotation182"/>
          <p:cNvSpPr/>
          <p:nvPr/>
        </p:nvSpPr>
        <p:spPr>
          <a:xfrm>
            <a:off x="5389560" y="6400800"/>
            <a:ext cx="24624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MARTPenAnnotation183"/>
          <p:cNvSpPr/>
          <p:nvPr/>
        </p:nvSpPr>
        <p:spPr>
          <a:xfrm>
            <a:off x="5754600" y="6229440"/>
            <a:ext cx="211320" cy="388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MARTPenAnnotation184"/>
          <p:cNvSpPr/>
          <p:nvPr/>
        </p:nvSpPr>
        <p:spPr>
          <a:xfrm>
            <a:off x="6080040" y="6308640"/>
            <a:ext cx="160560" cy="263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MARTPenAnnotation185"/>
          <p:cNvSpPr/>
          <p:nvPr/>
        </p:nvSpPr>
        <p:spPr>
          <a:xfrm>
            <a:off x="6068880" y="6264360"/>
            <a:ext cx="228600" cy="272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MARTPenAnnotation186"/>
          <p:cNvSpPr/>
          <p:nvPr/>
        </p:nvSpPr>
        <p:spPr>
          <a:xfrm>
            <a:off x="6356520" y="6240600"/>
            <a:ext cx="237960" cy="320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Numerical method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5638680" cy="27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chart to find the values greater than, less than, and equal 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+2&gt;3x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1&lt;x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6629400" y="2666880"/>
          <a:ext cx="2057400" cy="37339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</a:tblGrid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9" name="SMARTPenAnnotation119"/>
          <p:cNvSpPr/>
          <p:nvPr/>
        </p:nvSpPr>
        <p:spPr>
          <a:xfrm>
            <a:off x="6823080" y="3417840"/>
            <a:ext cx="237960" cy="297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MARTPenAnnotation120"/>
          <p:cNvSpPr/>
          <p:nvPr/>
        </p:nvSpPr>
        <p:spPr>
          <a:xfrm>
            <a:off x="7508880" y="3441600"/>
            <a:ext cx="228600" cy="365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MARTPenAnnotation121"/>
          <p:cNvSpPr/>
          <p:nvPr/>
        </p:nvSpPr>
        <p:spPr>
          <a:xfrm>
            <a:off x="8155080" y="3600360"/>
            <a:ext cx="189000" cy="34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MARTPenAnnotation122"/>
          <p:cNvSpPr/>
          <p:nvPr/>
        </p:nvSpPr>
        <p:spPr>
          <a:xfrm>
            <a:off x="8480520" y="3417840"/>
            <a:ext cx="34920" cy="376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MARTPenAnnotation123"/>
          <p:cNvSpPr/>
          <p:nvPr/>
        </p:nvSpPr>
        <p:spPr>
          <a:xfrm>
            <a:off x="6996240" y="3968640"/>
            <a:ext cx="33120" cy="432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MARTPenAnnotation124"/>
          <p:cNvSpPr/>
          <p:nvPr/>
        </p:nvSpPr>
        <p:spPr>
          <a:xfrm>
            <a:off x="7532640" y="4046400"/>
            <a:ext cx="239760" cy="330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MARTPenAnnotation125"/>
          <p:cNvSpPr/>
          <p:nvPr/>
        </p:nvSpPr>
        <p:spPr>
          <a:xfrm>
            <a:off x="8194680" y="3990960"/>
            <a:ext cx="355680" cy="330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MARTPenAnnotation126"/>
          <p:cNvSpPr/>
          <p:nvPr/>
        </p:nvSpPr>
        <p:spPr>
          <a:xfrm>
            <a:off x="6823080" y="4654440"/>
            <a:ext cx="285840" cy="260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MARTPenAnnotation127"/>
          <p:cNvSpPr/>
          <p:nvPr/>
        </p:nvSpPr>
        <p:spPr>
          <a:xfrm>
            <a:off x="7477200" y="4629240"/>
            <a:ext cx="272880" cy="158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MARTPenAnnotation128"/>
          <p:cNvSpPr/>
          <p:nvPr/>
        </p:nvSpPr>
        <p:spPr>
          <a:xfrm>
            <a:off x="7693200" y="4560840"/>
            <a:ext cx="21960" cy="433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MARTPenAnnotation129"/>
          <p:cNvSpPr/>
          <p:nvPr/>
        </p:nvSpPr>
        <p:spPr>
          <a:xfrm>
            <a:off x="8069400" y="4633920"/>
            <a:ext cx="411120" cy="336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MARTPenAnnotation130"/>
          <p:cNvSpPr/>
          <p:nvPr/>
        </p:nvSpPr>
        <p:spPr>
          <a:xfrm>
            <a:off x="6721560" y="5235480"/>
            <a:ext cx="114120" cy="433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MARTPenAnnotation131"/>
          <p:cNvSpPr/>
          <p:nvPr/>
        </p:nvSpPr>
        <p:spPr>
          <a:xfrm>
            <a:off x="6829560" y="5578560"/>
            <a:ext cx="17280" cy="22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MARTPenAnnotation132"/>
          <p:cNvSpPr/>
          <p:nvPr/>
        </p:nvSpPr>
        <p:spPr>
          <a:xfrm>
            <a:off x="6950160" y="5316480"/>
            <a:ext cx="193680" cy="273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MARTPenAnnotation133"/>
          <p:cNvSpPr/>
          <p:nvPr/>
        </p:nvSpPr>
        <p:spPr>
          <a:xfrm>
            <a:off x="7337520" y="5246640"/>
            <a:ext cx="247680" cy="376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MARTPenAnnotation134"/>
          <p:cNvSpPr/>
          <p:nvPr/>
        </p:nvSpPr>
        <p:spPr>
          <a:xfrm>
            <a:off x="7589880" y="5532480"/>
            <a:ext cx="11160" cy="46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MARTPenAnnotation135"/>
          <p:cNvSpPr/>
          <p:nvPr/>
        </p:nvSpPr>
        <p:spPr>
          <a:xfrm>
            <a:off x="7715160" y="5205240"/>
            <a:ext cx="182520" cy="338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MARTPenAnnotation136"/>
          <p:cNvSpPr/>
          <p:nvPr/>
        </p:nvSpPr>
        <p:spPr>
          <a:xfrm>
            <a:off x="7578720" y="5475240"/>
            <a:ext cx="33480" cy="39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MARTPenAnnotation137"/>
          <p:cNvSpPr/>
          <p:nvPr/>
        </p:nvSpPr>
        <p:spPr>
          <a:xfrm>
            <a:off x="8047080" y="5280120"/>
            <a:ext cx="171360" cy="285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MARTPenAnnotation138"/>
          <p:cNvSpPr/>
          <p:nvPr/>
        </p:nvSpPr>
        <p:spPr>
          <a:xfrm>
            <a:off x="8275680" y="5451480"/>
            <a:ext cx="11160" cy="46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MARTPenAnnotation139"/>
          <p:cNvSpPr/>
          <p:nvPr/>
        </p:nvSpPr>
        <p:spPr>
          <a:xfrm>
            <a:off x="8389800" y="5211720"/>
            <a:ext cx="216000" cy="297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MARTPenAnnotation140"/>
          <p:cNvSpPr/>
          <p:nvPr/>
        </p:nvSpPr>
        <p:spPr>
          <a:xfrm>
            <a:off x="7567560" y="5486400"/>
            <a:ext cx="79560" cy="103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Graphical solution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676160" y="2332080"/>
            <a:ext cx="746748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e your inequality as f(x)&gt;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f(x) and 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+2&gt;2x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&gt;x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&lt;x+1&lt;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4" descr="basic graph"/>
          <p:cNvPicPr/>
          <p:nvPr/>
        </p:nvPicPr>
        <p:blipFill>
          <a:blip r:embed="rId1"/>
          <a:stretch/>
        </p:blipFill>
        <p:spPr>
          <a:xfrm>
            <a:off x="5867280" y="3048120"/>
            <a:ext cx="2719440" cy="2790720"/>
          </a:xfrm>
          <a:prstGeom prst="rect">
            <a:avLst/>
          </a:prstGeom>
          <a:ln w="0">
            <a:noFill/>
          </a:ln>
        </p:spPr>
      </p:pic>
      <p:sp>
        <p:nvSpPr>
          <p:cNvPr id="464" name="SMARTPenAnnotation99"/>
          <p:cNvSpPr/>
          <p:nvPr/>
        </p:nvSpPr>
        <p:spPr>
          <a:xfrm>
            <a:off x="1782720" y="4068720"/>
            <a:ext cx="66852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MARTPenAnnotation100"/>
          <p:cNvSpPr/>
          <p:nvPr/>
        </p:nvSpPr>
        <p:spPr>
          <a:xfrm>
            <a:off x="7167600" y="3840120"/>
            <a:ext cx="112680" cy="92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MARTPenAnnotation101"/>
          <p:cNvSpPr/>
          <p:nvPr/>
        </p:nvSpPr>
        <p:spPr>
          <a:xfrm>
            <a:off x="6721560" y="3110040"/>
            <a:ext cx="1290600" cy="1439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MARTPenAnnotation102"/>
          <p:cNvSpPr/>
          <p:nvPr/>
        </p:nvSpPr>
        <p:spPr>
          <a:xfrm>
            <a:off x="5829480" y="4503600"/>
            <a:ext cx="925200" cy="936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MARTPenAnnotation103"/>
          <p:cNvSpPr/>
          <p:nvPr/>
        </p:nvSpPr>
        <p:spPr>
          <a:xfrm>
            <a:off x="7148520" y="4506840"/>
            <a:ext cx="98280" cy="100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MARTPenAnnotation104"/>
          <p:cNvSpPr/>
          <p:nvPr/>
        </p:nvSpPr>
        <p:spPr>
          <a:xfrm>
            <a:off x="6700680" y="4008600"/>
            <a:ext cx="763920" cy="1427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MARTPenAnnotation105"/>
          <p:cNvSpPr/>
          <p:nvPr/>
        </p:nvSpPr>
        <p:spPr>
          <a:xfrm>
            <a:off x="7429680" y="2903400"/>
            <a:ext cx="707760" cy="1165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MARTPenAnnotation106"/>
          <p:cNvSpPr/>
          <p:nvPr/>
        </p:nvSpPr>
        <p:spPr>
          <a:xfrm>
            <a:off x="7647120" y="3475080"/>
            <a:ext cx="136440" cy="239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MARTPenAnnotation107"/>
          <p:cNvSpPr/>
          <p:nvPr/>
        </p:nvSpPr>
        <p:spPr>
          <a:xfrm>
            <a:off x="7704000" y="3292560"/>
            <a:ext cx="147600" cy="353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MARTPenAnnotation108"/>
          <p:cNvSpPr/>
          <p:nvPr/>
        </p:nvSpPr>
        <p:spPr>
          <a:xfrm>
            <a:off x="7737480" y="2967120"/>
            <a:ext cx="320760" cy="565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MARTPenAnnotation109"/>
          <p:cNvSpPr/>
          <p:nvPr/>
        </p:nvSpPr>
        <p:spPr>
          <a:xfrm>
            <a:off x="7818480" y="3017880"/>
            <a:ext cx="457200" cy="239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MARTPenAnnotation110"/>
          <p:cNvSpPr/>
          <p:nvPr/>
        </p:nvSpPr>
        <p:spPr>
          <a:xfrm>
            <a:off x="7851600" y="4971960"/>
            <a:ext cx="35280" cy="435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MARTPenAnnotation111"/>
          <p:cNvSpPr/>
          <p:nvPr/>
        </p:nvSpPr>
        <p:spPr>
          <a:xfrm>
            <a:off x="7851600" y="4365720"/>
            <a:ext cx="24120" cy="423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MARTPenAnnotation112"/>
          <p:cNvSpPr/>
          <p:nvPr/>
        </p:nvSpPr>
        <p:spPr>
          <a:xfrm>
            <a:off x="7840800" y="3600360"/>
            <a:ext cx="34920" cy="685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MARTPenAnnotation113"/>
          <p:cNvSpPr/>
          <p:nvPr/>
        </p:nvSpPr>
        <p:spPr>
          <a:xfrm>
            <a:off x="7829640" y="3189240"/>
            <a:ext cx="21960" cy="343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MARTPenAnnotation114"/>
          <p:cNvSpPr/>
          <p:nvPr/>
        </p:nvSpPr>
        <p:spPr>
          <a:xfrm>
            <a:off x="7818480" y="2868480"/>
            <a:ext cx="33120" cy="25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MARTPenAnnotation115"/>
          <p:cNvSpPr/>
          <p:nvPr/>
        </p:nvSpPr>
        <p:spPr>
          <a:xfrm>
            <a:off x="7031160" y="5622840"/>
            <a:ext cx="169920" cy="355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MARTPenAnnotation116"/>
          <p:cNvSpPr/>
          <p:nvPr/>
        </p:nvSpPr>
        <p:spPr>
          <a:xfrm>
            <a:off x="6937200" y="5578560"/>
            <a:ext cx="331920" cy="433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MARTPenAnnotation117"/>
          <p:cNvSpPr/>
          <p:nvPr/>
        </p:nvSpPr>
        <p:spPr>
          <a:xfrm>
            <a:off x="7257960" y="5565600"/>
            <a:ext cx="297000" cy="343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MARTPenAnnotation118"/>
          <p:cNvSpPr/>
          <p:nvPr/>
        </p:nvSpPr>
        <p:spPr>
          <a:xfrm>
            <a:off x="7624800" y="5475240"/>
            <a:ext cx="182520" cy="297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23:45:50Z</dcterms:created>
  <dc:creator>nuhs</dc:creator>
  <dc:description/>
  <dc:language>en-US</dc:language>
  <cp:lastModifiedBy>Ameena</cp:lastModifiedBy>
  <dcterms:modified xsi:type="dcterms:W3CDTF">2008-09-26T20:25:40Z</dcterms:modified>
  <cp:revision>7</cp:revision>
  <dc:subject/>
  <dc:title>2.4: linear inqualities</dc:title>
</cp:coreProperties>
</file>